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5FA5-9870-4317-8837-C7A594593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159C-8627-4512-B8AD-0E798CE5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66EF-3F62-4C89-BD21-05F35100A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2D44-2FBB-492C-B7F5-B61BFCE3A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74FF-2010-4D60-9591-49F84B368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F64F-0267-457F-9D16-E527AD30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CFD5-1366-4669-BBF7-974CD509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2F46B-6991-4668-8ED6-87622F6F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E918-AF73-4FD2-BDE4-8ECAE40B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D472-3668-45E9-AF57-0935DD37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9BCA-C87E-4462-BA53-9246384D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FCE2-A324-43CE-8813-6887F3D8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AEDD7-D773-4F8B-8411-5DF82947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CE5F-117F-4A68-8AE3-B9CD097C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B96B-84EC-418F-B0B4-E2BE6981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3F2D-8621-4C7E-833E-8193B5131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CD2A8-F096-4B6A-A690-9647AA464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BA23-436F-400E-BA0E-7B08C950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30CA-CC7D-4416-8E43-3EFDA7A2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3D77-90EE-4ECB-8803-76AEC455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7630-946D-43D9-9F52-E5BFDE2F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7909-D5E3-465E-B7FD-726143C8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6087-2CCA-4F75-BB6F-B0FFFA02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F83D-D7DC-4939-8910-2F95FFEB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3611-7685-4DD0-B3CD-629807024A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08EC-7FC0-4536-9BDC-C312579B7A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84464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00"/>
                </a:solidFill>
                <a:latin typeface="Arial"/>
              </a:rPr>
              <a:t>ТЕМА: ОЦЕНКА СТОИМОСТИ ЗЕМЕЛЬ СЕЛЬСКОХОЗЯЙСТВЕННОГО НАЗНАЧЕНИЯ</a:t>
            </a:r>
            <a:endParaRPr b="0" lang="en-US" sz="41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385360" y="692280"/>
            <a:ext cx="425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 Black"/>
              </a:rPr>
              <a:t>Экономическая оце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 Black"/>
              </a:rPr>
              <a:t>стоимости зем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2708280"/>
            <a:ext cx="41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Подход, основанны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на экономическ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эффективности её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использ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59280" y="2708280"/>
            <a:ext cx="450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Подход, основанный 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нормативе возмещ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потерь при отводе земел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на несельскохозяйственны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це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340000" y="1628640"/>
            <a:ext cx="144000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1628640"/>
            <a:ext cx="136836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92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192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6" dur="192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8" dur="192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7900"/>
                            </p:stCondLst>
                            <p:childTnLst>
                              <p:par>
                                <p:cTn id="2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9900"/>
                            </p:stCondLst>
                            <p:childTnLst>
                              <p:par>
                                <p:cTn id="28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Объекты оценки в соответствии с Европейскими стандартам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Земл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Оборудованные фермы (с жилыми домами и постройками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Сельскохозяйственные имения и имуществ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Многолетние культур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Квоты на производство продук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Поголовье ско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Машины и материальные запас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Зерно в хранилищах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500"/>
                            </p:stCondLst>
                            <p:childTnLst>
                              <p:par>
                                <p:cTn id="3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500"/>
                            </p:stCondLst>
                            <p:childTnLst>
                              <p:par>
                                <p:cTn id="3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000"/>
                            </p:stCondLst>
                            <p:childTnLst>
                              <p:par>
                                <p:cTn id="3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В соответствии с законодательством РФ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Земли сельскохозяйственного назначения – это земли за чертой посел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В составе земель поселений выделяют зоны сельскохозяйственного использ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Земли сельскохозяйственного назначения подразделяются на земли: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Сельскохозяйственные угодь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Занятые внутрихозяйственными дорогами и коммуникация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Занятые древесно-кустарниковой растительность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Предназначенные для обеспечения защиты земель от негативных воздейств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Занятые обособленными водными объекта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Занятые зданиями, строениями и сооружениями, используемыми для производства, хранения и первичной переработки сельскохозяйственной продук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350"/>
                            </p:stCondLst>
                            <p:childTnLst>
                              <p:par>
                                <p:cTn id="3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350"/>
                            </p:stCondLst>
                            <p:childTnLst>
                              <p:par>
                                <p:cTn id="3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350"/>
                            </p:stCondLst>
                            <p:childTnLst>
                              <p:par>
                                <p:cTn id="3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6350"/>
                            </p:stCondLst>
                            <p:childTnLst>
                              <p:par>
                                <p:cTn id="3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7350"/>
                            </p:stCondLst>
                            <p:childTnLst>
                              <p:par>
                                <p:cTn id="3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8350"/>
                            </p:stCondLst>
                            <p:childTnLst>
                              <p:par>
                                <p:cTn id="3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Объекты оценки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Сельскохозяйственные и иные угодья, или незастроенные участки, предназначенные для сельскохозяйственного производ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Застроенные земельные участки, с расположенными на них постройками разного назначения и использов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Сельскохозяйственный имущественный комплекс с сельскохозяйственными угодья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Земельные до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150"/>
                            </p:stCondLst>
                            <p:childTnLst>
                              <p:par>
                                <p:cTn id="4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150"/>
                            </p:stCondLst>
                            <p:childTnLst>
                              <p:par>
                                <p:cTn id="4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150"/>
                            </p:stCondLst>
                            <p:childTnLst>
                              <p:par>
                                <p:cTn id="4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4150"/>
                            </p:stCondLst>
                            <p:childTnLst>
                              <p:par>
                                <p:cTn id="4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Вопрос 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Основные методы оценки рыночной стоимости земл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fc50"/>
                </a:solidFill>
                <a:latin typeface="Times New Roman"/>
              </a:rPr>
              <a:t>Рекомендуемые методы оценк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50920" y="1341360"/>
          <a:ext cx="8229600" cy="5295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еждународными стандартам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инимуществом Росси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Способ сравнения продаж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Метод сравнения продаж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Разнес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Метод распредел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Извлеч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Метод выдел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Остаточной стоимос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Метод остатка для земл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Способ развития территор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Метод предполагаемого использов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апитализации арендной пла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Метод капитализации земельной рен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cfc50"/>
                </a:solidFill>
                <a:latin typeface="Times New Roman"/>
              </a:rPr>
              <a:t>Основные характеристики методов оценки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0" y="1413000"/>
          <a:ext cx="9144000" cy="4782960"/>
        </p:xfrm>
        <a:graphic>
          <a:graphicData uri="http://schemas.openxmlformats.org/drawingml/2006/table">
            <a:tbl>
              <a:tblPr/>
              <a:tblGrid>
                <a:gridCol w="1979640"/>
                <a:gridCol w="2049480"/>
                <a:gridCol w="2271600"/>
                <a:gridCol w="2843280"/>
              </a:tblGrid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етод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На каком принципе базируетс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В каком случае используетс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Необходимая информац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етод сравнения продаж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Принцип замещен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Для оценки незастроенной земл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О ценах продаж аналог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етод распределен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Сбалансированности и вклад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Для оценки застроенных участк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О продажах застроенных земельных участка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етод выделен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Принцип наиболее эффективного использован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Для оценки застроенных участк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О стоимости улучшений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fc50"/>
                </a:solidFill>
                <a:latin typeface="Times New Roman"/>
              </a:rPr>
              <a:t>Основные характеристики методов оценк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0" y="1268280"/>
          <a:ext cx="9145440" cy="5300640"/>
        </p:xfrm>
        <a:graphic>
          <a:graphicData uri="http://schemas.openxmlformats.org/drawingml/2006/table">
            <a:tbl>
              <a:tblPr/>
              <a:tblGrid>
                <a:gridCol w="1944720"/>
                <a:gridCol w="2087640"/>
                <a:gridCol w="2233440"/>
                <a:gridCol w="28796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ет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На каком принципе базирует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В каком случае использует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Необходимая информа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етод остатка земл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Принцип остаточной продуктивности земл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Для оценки свободных или частично застроенных участк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О сделках по сдаче строений участков аналогов в аренд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етод пред-полагаемого использо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Принцип остаточной продуктивности земл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Для оценки любого земельного участ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О возможных денежных потоках связанных с использованием участ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етод капитализации земельной рен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Принцип наиболее эффективного использо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Для оценки любого земельного участ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О возможных денежных потоках связанных с использованием участ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cfc50"/>
                </a:solidFill>
                <a:latin typeface="Times New Roman"/>
              </a:rPr>
              <a:t>Метод сравнения продаж.</a:t>
            </a:r>
            <a:br>
              <a:rPr sz="3400"/>
            </a:br>
            <a:r>
              <a:rPr b="0" lang="en-US" sz="3400" spc="-1" strike="noStrike">
                <a:solidFill>
                  <a:srgbClr val="ecfc50"/>
                </a:solidFill>
                <a:latin typeface="Times New Roman"/>
              </a:rPr>
              <a:t>Последовательность действий</a:t>
            </a:r>
            <a:endParaRPr b="0" lang="en-US" sz="3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68360" y="1916280"/>
          <a:ext cx="8229600" cy="4103640"/>
        </p:xfrm>
        <a:graphic>
          <a:graphicData uri="http://schemas.openxmlformats.org/drawingml/2006/table">
            <a:tbl>
              <a:tblPr/>
              <a:tblGrid>
                <a:gridCol w="801720"/>
                <a:gridCol w="742788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Действ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Подбор участков земли, сопоставимых по ценообразующим факторам с оцениваемым участком, с известными ценами продаж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Внесение поправок в цены продаж, позволяющих учесть отличия объекта оценки от сопоставимого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Расчет стоимости земельного участка как среднего или средневзвешенного значения скорректированных цен сопоставимых объект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Тема: Оценка стоимости земель сельскохозяйственного назначения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. Особенности оценки стоимости земель сельскохозяйственного назначения. Объекты оценк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. Основные методы оценки земель        сельскохозяйственного назнач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3. Примеры оценки стоимости зем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4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28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680"/>
                            </p:stCondLst>
                            <p:childTnLst>
                              <p:par>
                                <p:cTn id="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cfc50"/>
                </a:solidFill>
                <a:latin typeface="Times New Roman"/>
              </a:rPr>
              <a:t>Методы определения значения поправок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838080" y="1905120"/>
          <a:ext cx="8007480" cy="4327560"/>
        </p:xfrm>
        <a:graphic>
          <a:graphicData uri="http://schemas.openxmlformats.org/drawingml/2006/table">
            <a:tbl>
              <a:tblPr/>
              <a:tblGrid>
                <a:gridCol w="4005360"/>
                <a:gridCol w="400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Количествен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Качествен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Анализ парного набора данн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Метод общей группиров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Статистический анали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Графический анали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Метод индивидуальных опрос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Анализ издерже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Анализ вторичных данн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66"/>
                </a:solidFill>
                <a:latin typeface="Times New Roman"/>
              </a:rPr>
              <a:t>Последовательность действий в методе распределения</a:t>
            </a:r>
            <a:endParaRPr b="0" lang="en-US" sz="3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1600200"/>
          <a:ext cx="8229600" cy="4759200"/>
        </p:xfrm>
        <a:graphic>
          <a:graphicData uri="http://schemas.openxmlformats.org/drawingml/2006/table">
            <a:tbl>
              <a:tblPr/>
              <a:tblGrid>
                <a:gridCol w="801720"/>
                <a:gridCol w="7427880"/>
              </a:tblGrid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Действ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Подбор недавно проданных или предлагаемых на продажу объектов с участками земли, аналогичными к оцениваемому участку, с известными ценам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Оценка отношения стоимости земли к общей стоимости собственности по каждому из подобранных объекто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Расчет рыночных стоимостей участков земли, находящихся в сопоставимых объектах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Корректировка полученных стоимостей земельных участков к стоимости оцениваемого участк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Расчет стоимости оцениваемого участка как среднего или средневзвешенного откорректированных стоимостей земельных участко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Последовательность действий при использовании метода выделения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7200" y="1600200"/>
          <a:ext cx="8229600" cy="4730760"/>
        </p:xfrm>
        <a:graphic>
          <a:graphicData uri="http://schemas.openxmlformats.org/drawingml/2006/table">
            <a:tbl>
              <a:tblPr/>
              <a:tblGrid>
                <a:gridCol w="801720"/>
                <a:gridCol w="7427880"/>
              </a:tblGrid>
              <a:tr h="53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№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Действ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одбор объектов недвижимости с участками земли, аналогичными оцениваемому, с известными ценам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Оценка рыночной стоимости улучшений для каждого из подобранных объектов недвижимости как разности полной восстановительной стоимости и накопленного износ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Расчет рыночных стоимостей участков земли, находящихся в составе подобранных объектов недвижимост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орректировка полученных стоимостей земельных участков к стоимости оцениваемого участк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Расчет стоимости оцениваемого участка как среднего или средневзвешенного откорректированных стоимостей земельных участко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Arial"/>
              </a:rPr>
              <a:t>Метод остатка земли</a:t>
            </a:r>
            <a:br>
              <a:rPr sz="2700"/>
            </a:br>
            <a:r>
              <a:rPr b="0" lang="en-US" sz="2700" spc="-1" strike="noStrike">
                <a:solidFill>
                  <a:srgbClr val="ffff66"/>
                </a:solidFill>
                <a:latin typeface="Arial"/>
              </a:rPr>
              <a:t>Последовательность действий</a:t>
            </a:r>
            <a:endParaRPr b="0" lang="en-US" sz="27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95280" y="1197000"/>
          <a:ext cx="8229600" cy="5348160"/>
        </p:xfrm>
        <a:graphic>
          <a:graphicData uri="http://schemas.openxmlformats.org/drawingml/2006/table">
            <a:tbl>
              <a:tblPr/>
              <a:tblGrid>
                <a:gridCol w="801720"/>
                <a:gridCol w="74278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Действ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Подбор наиболее типичных для оцениваемой территории видов коммерческого использования оцениваемого земельного участк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Расчет остаточной (для существующих) или полной восстановительной стоимости прогнозируемых улучшений для выбранных видов использования оцениваемого участка с учетом возможных ограничени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Расчет общего чистого дохода от объекта недвижимост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Расчет доли общего чистого дохода, приходящегося на строения, как произведение их полной восстановительной  стоимости на коэффициент капитализации доходов от улучшени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Расчет доли общего чистого дохода, приходящегося на земельный участок, как разности общего чистого дохода и доли, приходящейся на строени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Расчет стоимости земельного  участка путем деления доли общего чистого дохода, приходящейся на участок, на коэффициент капитализации доходов от зем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Метод предполагаемого использования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95280" y="1125360"/>
          <a:ext cx="8229600" cy="5319720"/>
        </p:xfrm>
        <a:graphic>
          <a:graphicData uri="http://schemas.openxmlformats.org/drawingml/2006/table">
            <a:tbl>
              <a:tblPr/>
              <a:tblGrid>
                <a:gridCol w="801720"/>
                <a:gridCol w="7427880"/>
              </a:tblGrid>
              <a:tr h="49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№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Действ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Анализ наиболее эффективного варианта застройки и доходного использования застроенного участка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Составление сметы, обоснование сроков и графика строительства выбранного варианта застройки земельного участка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Прогнозирование доходов от использования застроенного земельного участка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Расчет издержек, необходимых для получения доходов от использования застроенного земельного участка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Оценка  стоимости земельного участка путем дисконтирования всех денежных потоков, связанных с реализацией проекта наиболее эффективного использования земельного участка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cfc50"/>
                </a:solidFill>
                <a:latin typeface="Times New Roman"/>
              </a:rPr>
              <a:t>Метод капитализации земельной ренты</a:t>
            </a:r>
            <a:endParaRPr b="0" lang="en-US" sz="3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Годовая рен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V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Коэф. капитализ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V – 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рыночная стоимость зем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43280" y="3068640"/>
            <a:ext cx="3600360" cy="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етоды доходного подход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22280" y="2689560"/>
            <a:ext cx="8252640" cy="2687040"/>
            <a:chOff x="422280" y="2689560"/>
            <a:chExt cx="8252640" cy="2687040"/>
          </a:xfrm>
        </p:grpSpPr>
        <p:cxnSp>
          <p:nvCxnSpPr>
            <p:cNvPr id="182" name="_s133131"/>
            <p:cNvCxnSpPr>
              <a:stCxn id="183" idx="0"/>
              <a:endCxn id="184" idx="2"/>
            </p:cNvCxnSpPr>
            <p:nvPr/>
          </p:nvCxnSpPr>
          <p:spPr>
            <a:xfrm flipV="1" rot="16200000">
              <a:off x="5910840" y="2268720"/>
              <a:ext cx="160200" cy="2886840"/>
            </a:xfrm>
            <a:prstGeom prst="bentConnector3">
              <a:avLst>
                <a:gd name="adj1" fmla="val 49549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85" name="_s133125"/>
            <p:cNvCxnSpPr>
              <a:stCxn id="186" idx="0"/>
              <a:endCxn id="184" idx="2"/>
            </p:cNvCxnSpPr>
            <p:nvPr/>
          </p:nvCxnSpPr>
          <p:spPr>
            <a:xfrm flipV="1">
              <a:off x="4548240" y="3632040"/>
              <a:ext cx="3600" cy="16020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87" name="_s133126"/>
            <p:cNvCxnSpPr>
              <a:stCxn id="188" idx="0"/>
              <a:endCxn id="184" idx="2"/>
            </p:cNvCxnSpPr>
            <p:nvPr/>
          </p:nvCxnSpPr>
          <p:spPr>
            <a:xfrm flipH="1" flipV="1" rot="5400000">
              <a:off x="3025440" y="2269080"/>
              <a:ext cx="160200" cy="2886120"/>
            </a:xfrm>
            <a:prstGeom prst="bentConnector3">
              <a:avLst>
                <a:gd name="adj1" fmla="val 49549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184" name="_s133127"/>
            <p:cNvSpPr/>
            <p:nvPr/>
          </p:nvSpPr>
          <p:spPr>
            <a:xfrm>
              <a:off x="3333240" y="2689560"/>
              <a:ext cx="2430000" cy="942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Times New Roman"/>
                </a:rPr>
                <a:t>Доходный 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Times New Roman"/>
                </a:rPr>
                <a:t>подход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_s133128"/>
            <p:cNvSpPr/>
            <p:nvPr/>
          </p:nvSpPr>
          <p:spPr>
            <a:xfrm>
              <a:off x="422280" y="3791880"/>
              <a:ext cx="2481120" cy="1584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Метод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капитализации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Земельной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ренты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_s133129"/>
            <p:cNvSpPr/>
            <p:nvPr/>
          </p:nvSpPr>
          <p:spPr>
            <a:xfrm>
              <a:off x="3308400" y="3791880"/>
              <a:ext cx="2480400" cy="1584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Метод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предполагаемого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использования 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_s133130"/>
            <p:cNvSpPr/>
            <p:nvPr/>
          </p:nvSpPr>
          <p:spPr>
            <a:xfrm>
              <a:off x="6193800" y="3791880"/>
              <a:ext cx="2481120" cy="1584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600" rIns="21600" tIns="10800" bIns="10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Метод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остатка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для земли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44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тоды сравнительного подход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24000" y="1483560"/>
            <a:ext cx="8410320" cy="3850920"/>
            <a:chOff x="324000" y="1483560"/>
            <a:chExt cx="8410320" cy="3850920"/>
          </a:xfrm>
        </p:grpSpPr>
        <p:cxnSp>
          <p:nvCxnSpPr>
            <p:cNvPr id="193" name="_s134149"/>
            <p:cNvCxnSpPr>
              <a:stCxn id="194" idx="0"/>
              <a:endCxn id="195" idx="2"/>
            </p:cNvCxnSpPr>
            <p:nvPr/>
          </p:nvCxnSpPr>
          <p:spPr>
            <a:xfrm flipV="1" rot="16200000">
              <a:off x="5425200" y="1590480"/>
              <a:ext cx="1162440" cy="2947320"/>
            </a:xfrm>
            <a:prstGeom prst="bentConnector3">
              <a:avLst>
                <a:gd name="adj1" fmla="val 982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96" name="_s134150"/>
            <p:cNvCxnSpPr>
              <a:stCxn id="197" idx="0"/>
              <a:endCxn id="195" idx="2"/>
            </p:cNvCxnSpPr>
            <p:nvPr/>
          </p:nvCxnSpPr>
          <p:spPr>
            <a:xfrm flipV="1">
              <a:off x="4533120" y="2482560"/>
              <a:ext cx="3240" cy="20253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98" name="_s134151"/>
            <p:cNvCxnSpPr>
              <a:stCxn id="199" idx="0"/>
              <a:endCxn id="195" idx="2"/>
            </p:cNvCxnSpPr>
            <p:nvPr/>
          </p:nvCxnSpPr>
          <p:spPr>
            <a:xfrm flipH="1" flipV="1" rot="5400000">
              <a:off x="2474280" y="1586160"/>
              <a:ext cx="1162440" cy="2955960"/>
            </a:xfrm>
            <a:prstGeom prst="bentConnector3">
              <a:avLst>
                <a:gd name="adj1" fmla="val 9820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195" name="_s134152"/>
            <p:cNvSpPr/>
            <p:nvPr/>
          </p:nvSpPr>
          <p:spPr>
            <a:xfrm>
              <a:off x="3276720" y="1483560"/>
              <a:ext cx="2511000" cy="999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Сравнительный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подход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_s134153"/>
            <p:cNvSpPr/>
            <p:nvPr/>
          </p:nvSpPr>
          <p:spPr>
            <a:xfrm>
              <a:off x="324000" y="3645000"/>
              <a:ext cx="250812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Метод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сравнения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прода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_s134154"/>
            <p:cNvSpPr/>
            <p:nvPr/>
          </p:nvSpPr>
          <p:spPr>
            <a:xfrm>
              <a:off x="3276720" y="4507560"/>
              <a:ext cx="2511000" cy="82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Метод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распределен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_s134155"/>
            <p:cNvSpPr/>
            <p:nvPr/>
          </p:nvSpPr>
          <p:spPr>
            <a:xfrm>
              <a:off x="6228720" y="3645000"/>
              <a:ext cx="2505600" cy="826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Мето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выделен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5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6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6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6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7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7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7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Вопрос 3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Примеры оценки стоимости земли        сельскохозяйственного назнач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324000" y="907920"/>
          <a:ext cx="8567640" cy="5338800"/>
        </p:xfrm>
        <a:graphic>
          <a:graphicData uri="http://schemas.openxmlformats.org/drawingml/2006/table">
            <a:tbl>
              <a:tblPr/>
              <a:tblGrid>
                <a:gridCol w="4103640"/>
                <a:gridCol w="4464000"/>
              </a:tblGrid>
              <a:tr h="49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факто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орректировки на зависимой основ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. Условия финансир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0000(1-0,06)=28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. Дата продаж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+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8200(1+0,05)=296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орректировка на независимой основ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. Местополож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-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. Удоб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. Топограф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-1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Общая корректировка на независимой основ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-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Стоимость объекта-аналога, если он обладал характеристиками оцениваемого объе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9610(1-0,2)=2368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"/>
          <p:cNvSpPr/>
          <p:nvPr/>
        </p:nvSpPr>
        <p:spPr>
          <a:xfrm>
            <a:off x="755280" y="189000"/>
            <a:ext cx="77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Расчёт стоимости земли методом сравнения прода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Литература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Оценка недвижимости/ Под ред. А.Г. Грязновой. – М.: Финансы и статистика,  2003. – С. 236-26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Джораев В.О. Оценка бизнеса: Учебно–методическое пособие – Оренбург, ОГАУ, 2004. – 42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Экономическая оценка земли/ Под ред. Руденко Н.Р. – М.: ВНИИЭСХ, 2005. – 210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179280" y="2492280"/>
          <a:ext cx="8713800" cy="3333960"/>
        </p:xfrm>
        <a:graphic>
          <a:graphicData uri="http://schemas.openxmlformats.org/drawingml/2006/table">
            <a:tbl>
              <a:tblPr/>
              <a:tblGrid>
                <a:gridCol w="496800"/>
                <a:gridCol w="2760480"/>
                <a:gridCol w="1538640"/>
                <a:gridCol w="3917880"/>
              </a:tblGrid>
              <a:tr h="110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Цена земельного участка с улучшениями,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Доля земли,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Стоимость земли, руб./г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2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20 000*0,32=134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85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850 000*0,17=144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 000 000*0,15=15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Стоимость свободного земельного (134400+144500+150000)/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43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519120" y="431640"/>
            <a:ext cx="801360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Расчёт рыночной стоимости зем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методом распреде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Пример 1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250920" y="1484280"/>
          <a:ext cx="8678880" cy="3697200"/>
        </p:xfrm>
        <a:graphic>
          <a:graphicData uri="http://schemas.openxmlformats.org/drawingml/2006/table">
            <a:tbl>
              <a:tblPr/>
              <a:tblGrid>
                <a:gridCol w="461880"/>
                <a:gridCol w="2779560"/>
                <a:gridCol w="1943280"/>
                <a:gridCol w="34941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Цена объекта недвижимости (земельного участка с улучшениями),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Стоимость улучшений,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Отношение стоимости улучшений к стоимости объе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42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31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7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5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7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76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Среднее значени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96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Стоимость свободного земельного участка: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(1-0,75)*500000/0,75=167000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>
            <a:off x="3564000" y="47628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Пример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600"/>
                            </p:stCondLst>
                            <p:childTnLst>
                              <p:par>
                                <p:cTn id="5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468360" y="1773360"/>
          <a:ext cx="8451720" cy="4627440"/>
        </p:xfrm>
        <a:graphic>
          <a:graphicData uri="http://schemas.openxmlformats.org/drawingml/2006/table">
            <a:tbl>
              <a:tblPr/>
              <a:tblGrid>
                <a:gridCol w="1368360"/>
                <a:gridCol w="2087640"/>
                <a:gridCol w="2736720"/>
                <a:gridCol w="225900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объе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Цена предложения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рогнозируемый чистый операционный доход, руб./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оэффициент капитализ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 05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2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2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2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6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0 1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05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5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0 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70 7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9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6 126 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 097 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5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79 8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1150560" y="212760"/>
            <a:ext cx="73681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 Black"/>
              </a:rPr>
              <a:t>Оценка рыночной стоимости земли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 Black"/>
              </a:rPr>
              <a:t>методом остатк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Таблица 1.- Определение величины коэффициент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капитализации для улучше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4360"/>
                            </p:stCondLst>
                            <p:childTnLst>
                              <p:par>
                                <p:cTn id="5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395280" y="1916280"/>
          <a:ext cx="8280360" cy="4081320"/>
        </p:xfrm>
        <a:graphic>
          <a:graphicData uri="http://schemas.openxmlformats.org/drawingml/2006/table">
            <a:tbl>
              <a:tblPr/>
              <a:tblGrid>
                <a:gridCol w="792000"/>
                <a:gridCol w="5905800"/>
                <a:gridCol w="15825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№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Элемент анализ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Знач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Общий чистый операционный доход,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725 7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Стоимость улучшений,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 228 1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Коэффициент капитализации для улучше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2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Чистый операционный доход, относящийся к улучшениям (стр. 2*стр. 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48 0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Чистый операционный доход, относящийся к земле (стр. 1 – стр. 4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477 6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"/>
          <p:cNvSpPr/>
          <p:nvPr/>
        </p:nvSpPr>
        <p:spPr>
          <a:xfrm>
            <a:off x="1332000" y="404640"/>
            <a:ext cx="6956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 Black"/>
              </a:rPr>
              <a:t>Таблица 2. - Расчёт величины чистого операционного дохода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 Black"/>
              </a:rPr>
              <a:t>относящегося к земельному участку</a:t>
            </a:r>
            <a:r>
              <a:rPr b="0" lang="en-US" sz="2200" spc="-1" strike="noStrike">
                <a:solidFill>
                  <a:srgbClr val="ffcc66"/>
                </a:solidFill>
                <a:latin typeface="Arial Black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11280" y="2060640"/>
          <a:ext cx="8137440" cy="3095640"/>
        </p:xfrm>
        <a:graphic>
          <a:graphicData uri="http://schemas.openxmlformats.org/drawingml/2006/table">
            <a:tbl>
              <a:tblPr/>
              <a:tblGrid>
                <a:gridCol w="1081080"/>
                <a:gridCol w="5543640"/>
                <a:gridCol w="1512720"/>
              </a:tblGrid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№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Элемент анализ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Знач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Чистый операционный доход, относящийся к земле,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77 6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оэффициент капитализации дохода от зем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Рыночная стоимость земли, руб. (стр.1:стр.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 986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"/>
          <p:cNvSpPr/>
          <p:nvPr/>
        </p:nvSpPr>
        <p:spPr>
          <a:xfrm>
            <a:off x="1648440" y="476280"/>
            <a:ext cx="63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Таблица 3. - Итоговый расчёт стоимо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земельного участ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395280" y="765000"/>
          <a:ext cx="8229600" cy="5927760"/>
        </p:xfrm>
        <a:graphic>
          <a:graphicData uri="http://schemas.openxmlformats.org/drawingml/2006/table">
            <a:tbl>
              <a:tblPr/>
              <a:tblGrid>
                <a:gridCol w="1828800"/>
                <a:gridCol w="522360"/>
                <a:gridCol w="588960"/>
                <a:gridCol w="520560"/>
                <a:gridCol w="523800"/>
                <a:gridCol w="522360"/>
                <a:gridCol w="587520"/>
                <a:gridCol w="522000"/>
                <a:gridCol w="524160"/>
                <a:gridCol w="520560"/>
                <a:gridCol w="523800"/>
                <a:gridCol w="520920"/>
                <a:gridCol w="523800"/>
              </a:tblGrid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Затраты на строительств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Стоимость обремене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Арендная плата за зем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Доходы от продажи кварти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Итого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Доходы (+), расходы (-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-10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-2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Ставка дисконтир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12"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Фактор дисконтир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9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8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7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6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3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Дисконтирован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ный денежный пото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-10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-200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78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74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69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07,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51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36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29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21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14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Итого сум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12"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6625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Пример расчета методом предполагаемого использования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7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539640" y="2708280"/>
          <a:ext cx="8136000" cy="1714320"/>
        </p:xfrm>
        <a:graphic>
          <a:graphicData uri="http://schemas.openxmlformats.org/drawingml/2006/table">
            <a:tbl>
              <a:tblPr/>
              <a:tblGrid>
                <a:gridCol w="431640"/>
                <a:gridCol w="4992840"/>
                <a:gridCol w="2711520"/>
              </a:tblGrid>
              <a:tr h="77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Годовая рента, тыс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00</a:t>
                      </a: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×</a:t>
                      </a: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 = 4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Рыночная стоимость земельного участка, тыс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00 : 0,1 = 4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2207160" y="731880"/>
            <a:ext cx="5068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imes New Roman"/>
              </a:rPr>
              <a:t>Оценка стоимости земли методом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imes New Roman"/>
              </a:rPr>
              <a:t>капитализации земельной рент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0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000"/>
                            </p:stCondLst>
                            <p:childTnLst>
                              <p:par>
                                <p:cTn id="5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ВОПРОС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8229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Особенности оценки стоимости земель сельскохозяйственного назначения. Объекты оцен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Основные факторы, оказывающие влияние на стоимость земли: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Природно-климатические услов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Тип землепользования и направление ведения сельскохозяйственного производ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Структура посевных площадей и преобладающие системы севооборо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Виды сельскохозяйственных угодий и производимых товарных культур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Плодородие, технологические свойства и другие характеристики качества почв и рельеф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Основные факторы (продолжение):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Урожайность основных товарных культур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Местоположение относительно рынков сбы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Улучшения, произведенные с сельскохозяйственными угодья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Занятость населения и другие социально-демографические особен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Цены на ГСМ и сельскохозяйственную техник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Инфраструктура хозяй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Отличия, которые необходимо учитывать при оценке земель сельскохозяйственного назначения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Arial"/>
              </a:rPr>
              <a:t>В определении структуры  и состава издержек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Arial"/>
              </a:rPr>
              <a:t>В определении статей дохода и способов его оценки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Arial"/>
              </a:rPr>
              <a:t>В применении принципа наиболее эффективного использования, через выбор технологий ведения сельскохозяйственного производства, системы севооборотов, обеспечивающих получение максимального дохода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Arial"/>
              </a:rPr>
              <a:t>В критериях отбора объектов аналогов и элементов сравнени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Особенности, которые необходимо учитывать при проведении оценки: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Необходимость поддержания почвенного плодородия сельскохозяйственных угодий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Прямая зависимость структуры сельскохозяйственных угодий от физико-географических характеристик местност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Высокие риски ведения производства, обусловленные природными факторам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Влияние на доходы производства колебания цен на сельскохозяйственную продукцию, ГСМ, сельскохозяйственную технику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Сезонный характер сельскохозяйственного производства и цен на рынке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Диспаритет цен на сельскохозяйственную и промышленную продукцию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Невысокая плотность населени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Степень развития инфраструктуры и др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500"/>
                            </p:stCondLst>
                            <p:childTnLst>
                              <p:par>
                                <p:cTn id="20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771640" y="15573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76800" y="3645000"/>
            <a:ext cx="368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Экономическая оце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стоимости зем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0640" y="3645000"/>
            <a:ext cx="357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Качественная оцен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земель по природ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свойств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195640" y="2205000"/>
            <a:ext cx="201600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19640" y="2205000"/>
            <a:ext cx="187164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18000" y="1197000"/>
            <a:ext cx="560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 Black"/>
              </a:rPr>
              <a:t>Оценка сельскохозяйствен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 Black"/>
              </a:rPr>
              <a:t>угод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2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2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2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300"/>
                            </p:stCondLst>
                            <p:childTnLst>
                              <p:par>
                                <p:cTn id="22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3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300"/>
                            </p:stCondLst>
                            <p:childTnLst>
                              <p:par>
                                <p:cTn id="23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6300"/>
                            </p:stCondLst>
                            <p:childTnLst>
                              <p:par>
                                <p:cTn id="2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10:18:03Z</dcterms:created>
  <dc:creator>Джораев </dc:creator>
  <dc:description/>
  <dc:language>en-US</dc:language>
  <cp:lastModifiedBy>Джораев В.О.</cp:lastModifiedBy>
  <dcterms:modified xsi:type="dcterms:W3CDTF">2007-02-15T17:00:20Z</dcterms:modified>
  <cp:revision>18</cp:revision>
  <dc:subject/>
  <dc:title>ТЕМА: ОЦЕНКА СТОИМОСТИ ЗЕМЕЛЬ СЕЛЬСКОХОЗЯЙСТВЕННОГО НАЗНАЧЕНИЯ</dc:title>
</cp:coreProperties>
</file>